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8A9-56FC-4F77-9AD6-41B91F75A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AC0F-DB55-4D93-A226-BC53459C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0FDB-4ECB-4A1D-9846-38F8072C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E37F-44BA-4752-80FF-830AF960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DAB6-C431-4D95-8911-9CEDD6D4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422-84C7-4E7A-97A3-1AA7D02D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8B0A-CAE8-4593-9E2D-EBD98883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5AD-E333-4133-8C0E-098486ED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725-6752-405B-9DEB-8F4747B8A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B46D-7516-4049-B0AA-4501ED55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2B7-5A96-443D-A117-65A921D36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2978-A036-4FAE-A1D4-F5C71A67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AC7-47E0-46E3-8092-FC91BA70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B24-B0B3-4D88-95E8-F5688411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5BE-9BFA-4EFF-9D93-2CD4CB8B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840-A373-4E41-AF5C-78A6B470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FA4-1B4C-40C7-A893-66B14C6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C0B2-9AAE-4384-A08B-217D8FCC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C13A-9651-479A-A87A-7DD6BCEB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965-A191-4197-95AA-38A190B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551-4F79-4195-A8E4-2428345E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A389-D8B1-4BD1-87A7-A3560FD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DD4A-147C-4795-9A75-B4464B8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C04-1072-4FDE-9907-2317C981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29F3-B088-4B92-8AB6-DEB8515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D059-756F-41BB-9E45-D1AF6A0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3A6E-2871-469B-AEE7-626E9270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A8BC-E95F-4101-B8E3-D7F76058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688A-105E-454E-A9B6-173EA580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DB7-86FC-4DEB-9320-4E64221B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AF1-0188-4A51-AE01-F070F958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867-39D3-4CE9-836F-DF55F86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E1A-F57A-4971-BA8A-9F0C6041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CF7-7E9D-490D-A949-79073BC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A61-F81B-4833-A22E-FC0B449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3A8-D1CC-4FE7-ACA7-F58B73D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96A-10DB-44F0-8B3C-AE6FE7C1FC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95B1-5658-4FBA-AEBF-D3033BDB2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at Is Sci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at Is Sci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0E41-98F7-40B0-A684-B095B232C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23F-12D6-4707-848B-EFED340E8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2 laboratory safety procedures that we will use in biology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hinking Like a Scient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making observations scientists can make in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logical interpretation based on prior knowledge or experi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rences can help to form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181480" y="4038480"/>
            <a:ext cx="36576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Inferring and Forming a Hypo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posed scientific explan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set of observ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hypothesis may be ruled out or confi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4165560"/>
            <a:ext cx="4027320" cy="2692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105520" y="416232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Explaining and Interpreting Evi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heses are tested by perform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075040" y="2668680"/>
            <a:ext cx="47242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8642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00"/>
                </a:solidFill>
                <a:latin typeface="Calibri"/>
              </a:rPr>
              <a:t>Designing Controlled Experi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tors that change in an experiment are called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variable should be changed during the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ther variables should be kept unchanged, or contro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00"/>
                </a:solidFill>
                <a:latin typeface="Calibri"/>
              </a:rPr>
              <a:t>Designing Controlled Experi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152280" y="16002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several variables are changed in the experiment, researchers can’t tell which variable is responsible for any results they obser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variable that is deliberately changed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variable that is observed and that changes in response to the independent variable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formation gathered from observations i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: Numbers (measurem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: Descriptive and usually can’t be coun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Alex\Desktop\Batch 4\Art\Art 3_18_09+\BIO10NAE_01_01_02_005_LRIM_06.png"/>
          <p:cNvPicPr/>
          <p:nvPr/>
        </p:nvPicPr>
        <p:blipFill>
          <a:blip r:embed="rId1"/>
          <a:stretch/>
        </p:blipFill>
        <p:spPr>
          <a:xfrm>
            <a:off x="0" y="411480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Drawing Conclusi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cientists use experimental data as evidence to support, refute, or revise the hypothesis being tested, and to draw a valid conclu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Alex\Desktop\Batch 4\Art\Art 3_18_09+\BIO10NAE_01_01_02_005_LRIM_08.png"/>
          <p:cNvPicPr/>
          <p:nvPr/>
        </p:nvPicPr>
        <p:blipFill>
          <a:blip r:embed="rId1"/>
          <a:stretch/>
        </p:blipFill>
        <p:spPr>
          <a:xfrm>
            <a:off x="3124080" y="2971800"/>
            <a:ext cx="2946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cience as a Way of Kn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ience is an ongo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at invol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in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cience and Human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new knowledge gained through research, scientists continually revise and reevaluate their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understanding of science and the scientific approach is essential to making intelligent decisions about many important top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0" y="4800600"/>
            <a:ext cx="3089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biology using your own wor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034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  <a:ea typeface="Arial"/>
              </a:rPr>
              <a:t>Chapter 1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ily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te and explain the goals of sc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the steps used in the scientific meth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he Goals of Science ar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81240" y="1752120"/>
            <a:ext cx="8915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and understand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events in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ose explanations to make useful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2973240" cy="222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78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at Makes Science Un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deals only with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s collect and organize information in a careful, orderly way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s propose explanations that can be tested by examining evi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at Science Is and Is N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organized way of using evidence to learn about the natural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048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Observing and Asking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fic thinking begins with observ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process of gathering information about events or processes in a careful, orderly w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 generally involves using the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6477120" y="3867120"/>
            <a:ext cx="2666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6:06:20Z</dcterms:created>
  <dc:creator>Alex</dc:creator>
  <dc:description/>
  <dc:language>en-US</dc:language>
  <cp:lastModifiedBy>dzahm</cp:lastModifiedBy>
  <dcterms:modified xsi:type="dcterms:W3CDTF">2013-09-04T18:15:07Z</dcterms:modified>
  <cp:revision>85</cp:revision>
  <dc:subject/>
  <dc:title>Slide 1</dc:title>
</cp:coreProperties>
</file>